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7897-F38F-4A6C-B5A5-0C22D3EBB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400" y="249120"/>
            <a:ext cx="830556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8400" y="1120320"/>
            <a:ext cx="830556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8400" y="3789000"/>
            <a:ext cx="830556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C741-E3F1-4918-A558-7D4ACDD4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400" y="249120"/>
            <a:ext cx="830556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8400" y="1120320"/>
            <a:ext cx="405288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4320" y="1120320"/>
            <a:ext cx="405288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8400" y="3789000"/>
            <a:ext cx="405288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4320" y="3789000"/>
            <a:ext cx="405288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CB2A-8B89-4DBF-AA64-C903E2E29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400" y="249120"/>
            <a:ext cx="830556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8400" y="1120320"/>
            <a:ext cx="267408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400" y="1120320"/>
            <a:ext cx="267408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120320"/>
            <a:ext cx="267408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8400" y="3789000"/>
            <a:ext cx="267408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400" y="3789000"/>
            <a:ext cx="267408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789000"/>
            <a:ext cx="267408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46C2-FE5E-4E99-ACF4-1598F8BDA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9546-71C0-4922-AD2E-4988CE932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400" y="249120"/>
            <a:ext cx="830556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28400" y="1120320"/>
            <a:ext cx="8305560" cy="51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D3602-3FD0-4946-AC0F-9DC4F84E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400" y="249120"/>
            <a:ext cx="830556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28400" y="1120320"/>
            <a:ext cx="8305560" cy="51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B100-A153-4C32-BF92-921449B9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400" y="249120"/>
            <a:ext cx="830556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28400" y="1120320"/>
            <a:ext cx="4052880" cy="51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4320" y="1120320"/>
            <a:ext cx="4052880" cy="51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72BA-7500-454D-85F8-068E3997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400" y="249120"/>
            <a:ext cx="830556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E4B9-6330-4582-82D8-171BEA73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28400" y="249120"/>
            <a:ext cx="830556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012"/>
              </a:spcBef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38C6-DF2E-4368-B6F0-AE161DF7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400" y="249120"/>
            <a:ext cx="830556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28400" y="1120320"/>
            <a:ext cx="405288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4320" y="1120320"/>
            <a:ext cx="4052880" cy="51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28400" y="3789000"/>
            <a:ext cx="405288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63BE-E094-4DD2-BE89-4171405B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400" y="249120"/>
            <a:ext cx="830556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8400" y="1120320"/>
            <a:ext cx="8305560" cy="51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998E-7C38-496D-9E4A-72B05601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400" y="249120"/>
            <a:ext cx="830556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28400" y="1120320"/>
            <a:ext cx="4052880" cy="51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4320" y="1120320"/>
            <a:ext cx="405288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4320" y="3789000"/>
            <a:ext cx="405288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CCDE-964C-482C-9B47-06FDF15A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400" y="249120"/>
            <a:ext cx="830556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8400" y="1120320"/>
            <a:ext cx="405288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4320" y="1120320"/>
            <a:ext cx="405288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28400" y="3789000"/>
            <a:ext cx="830556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2D67E-A1D8-4677-83B4-1A6318D8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400" y="249120"/>
            <a:ext cx="830556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28400" y="1120320"/>
            <a:ext cx="830556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400" y="3789000"/>
            <a:ext cx="830556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7B00-F4F8-49F7-B593-D77E8B4A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400" y="249120"/>
            <a:ext cx="830556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28400" y="1120320"/>
            <a:ext cx="405288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4320" y="1120320"/>
            <a:ext cx="405288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28400" y="3789000"/>
            <a:ext cx="405288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4320" y="3789000"/>
            <a:ext cx="405288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CE62-3E04-448A-997F-7326C478E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400" y="249120"/>
            <a:ext cx="830556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28400" y="1120320"/>
            <a:ext cx="267408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6400" y="1120320"/>
            <a:ext cx="267408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44760" y="1120320"/>
            <a:ext cx="267408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28400" y="3789000"/>
            <a:ext cx="267408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6400" y="3789000"/>
            <a:ext cx="267408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44760" y="3789000"/>
            <a:ext cx="267408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9859-2E8E-43D4-BD73-237C1C103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430E4-B2AC-424E-A519-B44021DDA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400" y="249120"/>
            <a:ext cx="830556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28400" y="1120320"/>
            <a:ext cx="8305560" cy="51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C03B0-67C5-4CE3-BB35-DBA48CC4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400" y="249120"/>
            <a:ext cx="830556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28400" y="1120320"/>
            <a:ext cx="8305560" cy="51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F8B83-CB6C-4897-BA92-7E3B8538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400" y="249120"/>
            <a:ext cx="830556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28400" y="1120320"/>
            <a:ext cx="4052880" cy="51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4320" y="1120320"/>
            <a:ext cx="4052880" cy="51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E74E4-AB7A-4E15-A206-2ACCEC36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8400" y="249120"/>
            <a:ext cx="830556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352EB-70B8-4D3E-99CD-3281B056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400" y="249120"/>
            <a:ext cx="830556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8400" y="1120320"/>
            <a:ext cx="8305560" cy="51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71D8-BD14-48B3-9724-675258BF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28400" y="249120"/>
            <a:ext cx="830556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012"/>
              </a:spcBef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F96C2-2208-4B99-918B-BF970DAB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400" y="249120"/>
            <a:ext cx="830556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28400" y="1120320"/>
            <a:ext cx="405288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4320" y="1120320"/>
            <a:ext cx="4052880" cy="51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8400" y="3789000"/>
            <a:ext cx="405288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16E54-A056-4030-AC87-B16623B3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8400" y="249120"/>
            <a:ext cx="830556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28400" y="1120320"/>
            <a:ext cx="4052880" cy="51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4320" y="1120320"/>
            <a:ext cx="405288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84320" y="3789000"/>
            <a:ext cx="405288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60B28-FB73-4F36-9BFE-5B58E922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400" y="249120"/>
            <a:ext cx="830556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28400" y="1120320"/>
            <a:ext cx="405288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4320" y="1120320"/>
            <a:ext cx="405288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28400" y="3789000"/>
            <a:ext cx="830556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E6EF8-F352-45FF-9698-7E841B04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8400" y="249120"/>
            <a:ext cx="830556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28400" y="1120320"/>
            <a:ext cx="830556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28400" y="3789000"/>
            <a:ext cx="830556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C791E-EE7B-42F1-9F9A-324B90CB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400" y="249120"/>
            <a:ext cx="830556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28400" y="1120320"/>
            <a:ext cx="405288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4320" y="1120320"/>
            <a:ext cx="405288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28400" y="3789000"/>
            <a:ext cx="405288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84320" y="3789000"/>
            <a:ext cx="405288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C9096-1F75-474E-BE82-EE661C9DE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28400" y="249120"/>
            <a:ext cx="830556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28400" y="1120320"/>
            <a:ext cx="267408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6400" y="1120320"/>
            <a:ext cx="267408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44760" y="1120320"/>
            <a:ext cx="267408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28400" y="3789000"/>
            <a:ext cx="267408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6400" y="3789000"/>
            <a:ext cx="267408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44760" y="3789000"/>
            <a:ext cx="267408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72FAF-C2D5-4EF1-99BE-2010DF3AA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400" y="249120"/>
            <a:ext cx="830556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8400" y="1120320"/>
            <a:ext cx="4052880" cy="51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4320" y="1120320"/>
            <a:ext cx="4052880" cy="51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9A08-4130-4836-8997-359BF924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400" y="249120"/>
            <a:ext cx="830556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4559-45A7-4C91-91C0-6BF892B3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8400" y="249120"/>
            <a:ext cx="830556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012"/>
              </a:spcBef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8C81-C25F-4C41-92FE-68C96A96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400" y="249120"/>
            <a:ext cx="830556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8400" y="1120320"/>
            <a:ext cx="405288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4320" y="1120320"/>
            <a:ext cx="4052880" cy="51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8400" y="3789000"/>
            <a:ext cx="405288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350F-FC75-4186-B08C-B9DE5EED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400" y="249120"/>
            <a:ext cx="830556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8400" y="1120320"/>
            <a:ext cx="4052880" cy="51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4320" y="1120320"/>
            <a:ext cx="405288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4320" y="3789000"/>
            <a:ext cx="405288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014F-5341-4381-B530-6A7B2AA2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400" y="249120"/>
            <a:ext cx="830556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8400" y="1120320"/>
            <a:ext cx="405288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4320" y="1120320"/>
            <a:ext cx="405288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8400" y="3789000"/>
            <a:ext cx="830556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012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3855-6490-4B7A-9F3F-0CF125E2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B623-4AB6-4483-B92B-60AA6E1BF5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e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6"/>
          <p:cNvSpPr/>
          <p:nvPr/>
        </p:nvSpPr>
        <p:spPr>
          <a:xfrm>
            <a:off x="0" y="249120"/>
            <a:ext cx="9144000" cy="608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400" y="249120"/>
            <a:ext cx="830556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28200" y="624204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029040" y="624204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457680" y="624204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6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B673-D1AD-4408-864A-CC2F8D085D72}" type="slidenum">
              <a:rPr b="0" lang="zh-CN" sz="6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28400" y="1120320"/>
            <a:ext cx="8305560" cy="51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 algn="just">
              <a:lnSpc>
                <a:spcPct val="110000"/>
              </a:lnSpc>
              <a:spcBef>
                <a:spcPts val="1012"/>
              </a:spcBef>
              <a:buClr>
                <a:srgbClr val="ac6c0d"/>
              </a:buClr>
              <a:buSzPct val="80000"/>
              <a:buFont typeface="Webdings" charset="2"/>
              <a:buChar char="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ac6c0d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  <a:p>
            <a:pPr lvl="1" indent="514440" algn="just">
              <a:lnSpc>
                <a:spcPct val="110000"/>
              </a:lnSpc>
              <a:spcBef>
                <a:spcPts val="1012"/>
              </a:spcBef>
              <a:buClr>
                <a:srgbClr val="c07a63"/>
              </a:buClr>
              <a:buSzPct val="120000"/>
              <a:buFont typeface="幼圆"/>
              <a:buChar char=" 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ac6c0d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  <a:p>
            <a:pPr lvl="2" marL="514440" algn="just">
              <a:lnSpc>
                <a:spcPct val="110000"/>
              </a:lnSpc>
              <a:spcBef>
                <a:spcPts val="1012"/>
              </a:spcBef>
              <a:buClr>
                <a:srgbClr val="080808"/>
              </a:buClr>
              <a:buSzPct val="12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ac6c0d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  <a:p>
            <a:pPr lvl="3" marL="771480" indent="-257040" algn="just">
              <a:lnSpc>
                <a:spcPct val="110000"/>
              </a:lnSpc>
              <a:spcBef>
                <a:spcPts val="1012"/>
              </a:spcBef>
              <a:buClr>
                <a:srgbClr val="080808"/>
              </a:buClr>
              <a:buSzPct val="12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ac6c0d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  <a:p>
            <a:pPr lvl="4" marL="1028880" indent="-514440" algn="just">
              <a:lnSpc>
                <a:spcPct val="110000"/>
              </a:lnSpc>
              <a:spcBef>
                <a:spcPts val="1012"/>
              </a:spcBef>
              <a:buClr>
                <a:srgbClr val="080808"/>
              </a:buClr>
              <a:buSzPct val="12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ac6c0d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  <a:p>
            <a:pPr lvl="5" marL="1028880" indent="-514440" algn="just">
              <a:lnSpc>
                <a:spcPct val="110000"/>
              </a:lnSpc>
              <a:spcBef>
                <a:spcPts val="1012"/>
              </a:spcBef>
              <a:buClr>
                <a:srgbClr val="080808"/>
              </a:buClr>
              <a:buSzPct val="12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ac6c0d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  <a:p>
            <a:pPr lvl="6" marL="1028880" indent="-514440" algn="just">
              <a:lnSpc>
                <a:spcPct val="110000"/>
              </a:lnSpc>
              <a:spcBef>
                <a:spcPts val="1012"/>
              </a:spcBef>
              <a:buClr>
                <a:srgbClr val="080808"/>
              </a:buClr>
              <a:buSzPct val="12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ac6c0d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grpSp>
        <p:nvGrpSpPr>
          <p:cNvPr id="48" name="组合 10"/>
          <p:cNvGrpSpPr/>
          <p:nvPr/>
        </p:nvGrpSpPr>
        <p:grpSpPr>
          <a:xfrm>
            <a:off x="0" y="6423120"/>
            <a:ext cx="9144000" cy="345960"/>
            <a:chOff x="0" y="6423120"/>
            <a:chExt cx="9144000" cy="345960"/>
          </a:xfrm>
        </p:grpSpPr>
        <p:sp>
          <p:nvSpPr>
            <p:cNvPr id="49" name="矩形 8"/>
            <p:cNvSpPr/>
            <p:nvPr/>
          </p:nvSpPr>
          <p:spPr>
            <a:xfrm>
              <a:off x="0" y="6620040"/>
              <a:ext cx="9144000" cy="149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等腰三角形 9"/>
            <p:cNvSpPr/>
            <p:nvPr/>
          </p:nvSpPr>
          <p:spPr>
            <a:xfrm>
              <a:off x="4389480" y="6423120"/>
              <a:ext cx="365040" cy="1969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e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0" y="3379680"/>
            <a:ext cx="9144000" cy="21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3"/>
          <p:cNvSpPr/>
          <p:nvPr/>
        </p:nvSpPr>
        <p:spPr>
          <a:xfrm>
            <a:off x="260280" y="3757680"/>
            <a:ext cx="1198800" cy="1363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"/>
                <a:ea typeface="微软雅黑"/>
              </a:rPr>
              <a:t>2015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8400" y="249120"/>
            <a:ext cx="830556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28400" y="1120320"/>
            <a:ext cx="8305560" cy="51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 algn="just">
              <a:lnSpc>
                <a:spcPct val="110000"/>
              </a:lnSpc>
              <a:spcBef>
                <a:spcPts val="1012"/>
              </a:spcBef>
              <a:buClr>
                <a:srgbClr val="ac6c0d"/>
              </a:buClr>
              <a:buSzPct val="80000"/>
              <a:buFont typeface="Webdings" charset="2"/>
              <a:buChar char="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ac6c0d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  <a:p>
            <a:pPr lvl="1" indent="514440" algn="just">
              <a:lnSpc>
                <a:spcPct val="110000"/>
              </a:lnSpc>
              <a:spcBef>
                <a:spcPts val="1012"/>
              </a:spcBef>
              <a:buClr>
                <a:srgbClr val="c07a63"/>
              </a:buClr>
              <a:buSzPct val="120000"/>
              <a:buFont typeface="幼圆"/>
              <a:buChar char=" 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ac6c0d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  <a:p>
            <a:pPr lvl="2" marL="514440" algn="just">
              <a:lnSpc>
                <a:spcPct val="110000"/>
              </a:lnSpc>
              <a:spcBef>
                <a:spcPts val="1012"/>
              </a:spcBef>
              <a:buClr>
                <a:srgbClr val="080808"/>
              </a:buClr>
              <a:buSzPct val="12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ac6c0d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  <a:p>
            <a:pPr lvl="3" marL="771480" indent="-257040" algn="just">
              <a:lnSpc>
                <a:spcPct val="110000"/>
              </a:lnSpc>
              <a:spcBef>
                <a:spcPts val="1012"/>
              </a:spcBef>
              <a:buClr>
                <a:srgbClr val="080808"/>
              </a:buClr>
              <a:buSzPct val="12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ac6c0d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  <a:p>
            <a:pPr lvl="4" marL="1028880" indent="-514440" algn="just">
              <a:lnSpc>
                <a:spcPct val="110000"/>
              </a:lnSpc>
              <a:spcBef>
                <a:spcPts val="1012"/>
              </a:spcBef>
              <a:buClr>
                <a:srgbClr val="080808"/>
              </a:buClr>
              <a:buSzPct val="12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ac6c0d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  <a:p>
            <a:pPr lvl="5" marL="1028880" indent="-514440" algn="just">
              <a:lnSpc>
                <a:spcPct val="110000"/>
              </a:lnSpc>
              <a:spcBef>
                <a:spcPts val="1012"/>
              </a:spcBef>
              <a:buClr>
                <a:srgbClr val="080808"/>
              </a:buClr>
              <a:buSzPct val="12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ac6c0d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  <a:p>
            <a:pPr lvl="6" marL="1028880" indent="-514440" algn="just">
              <a:lnSpc>
                <a:spcPct val="110000"/>
              </a:lnSpc>
              <a:spcBef>
                <a:spcPts val="1012"/>
              </a:spcBef>
              <a:buClr>
                <a:srgbClr val="080808"/>
              </a:buClr>
              <a:buSzPct val="120000"/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ac6c0d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6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AD4B-B9C4-4B72-B42D-131ADD9C90B3}" type="slidenum">
              <a:rPr b="0" lang="zh-CN" sz="6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520" y="3777840"/>
            <a:ext cx="67057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4000" spc="-1" strike="noStrike">
                <a:solidFill>
                  <a:srgbClr val="080808"/>
                </a:solidFill>
                <a:latin typeface="微软雅黑"/>
                <a:ea typeface="微软雅黑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76360" y="1123560"/>
            <a:ext cx="64008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化学与药学院</a:t>
            </a:r>
            <a:br>
              <a:rPr sz="4800"/>
            </a:br>
            <a:endParaRPr b="0" lang="en-US" sz="4800" spc="-1" strike="noStrike">
              <a:solidFill>
                <a:srgbClr val="ac6c0d"/>
              </a:solidFill>
              <a:latin typeface="微软雅黑"/>
            </a:endParaRPr>
          </a:p>
          <a:p>
            <a:pPr indent="0" algn="ctr">
              <a:lnSpc>
                <a:spcPct val="11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  <a:p>
            <a:pPr indent="0" algn="ctr">
              <a:lnSpc>
                <a:spcPct val="11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  <a:p>
            <a:pPr indent="0" algn="ctr">
              <a:lnSpc>
                <a:spcPct val="11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关于做好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4-2015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学年</a:t>
            </a:r>
            <a:br>
              <a:rPr sz="2400"/>
            </a:b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省政府励志奖学金、国家励志奖学金、国家助学金评定工作上交材料要求及注意事项 </a:t>
            </a: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  <a:p>
            <a:pPr indent="0">
              <a:lnSpc>
                <a:spcPct val="11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                      </a:t>
            </a: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  <a:p>
            <a:pPr indent="0">
              <a:lnSpc>
                <a:spcPct val="11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  <a:p>
            <a:pPr indent="0">
              <a:lnSpc>
                <a:spcPct val="110000"/>
              </a:lnSpc>
              <a:spcBef>
                <a:spcPts val="1012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                          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化学与药学院勤工助学部</a:t>
            </a: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30592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班级电子版上交材料要求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pic>
        <p:nvPicPr>
          <p:cNvPr id="162" name="内容占位符 3" descr=""/>
          <p:cNvPicPr/>
          <p:nvPr/>
        </p:nvPicPr>
        <p:blipFill>
          <a:blip r:embed="rId1"/>
          <a:stretch/>
        </p:blipFill>
        <p:spPr>
          <a:xfrm>
            <a:off x="0" y="1946160"/>
            <a:ext cx="4633920" cy="2799000"/>
          </a:xfrm>
          <a:prstGeom prst="rect">
            <a:avLst/>
          </a:prstGeom>
          <a:ln w="0">
            <a:noFill/>
          </a:ln>
        </p:spPr>
      </p:pic>
      <p:sp>
        <p:nvSpPr>
          <p:cNvPr id="163" name="文本框 4"/>
          <p:cNvSpPr/>
          <p:nvPr/>
        </p:nvSpPr>
        <p:spPr>
          <a:xfrm>
            <a:off x="5076720" y="2060640"/>
            <a:ext cx="310536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国家励志奖学金：放入个人材料文件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命名方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XX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同学国家励志奖学金材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30592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班级电子版上交材料要求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pic>
        <p:nvPicPr>
          <p:cNvPr id="165" name="内容占位符 3" descr=""/>
          <p:cNvPicPr/>
          <p:nvPr/>
        </p:nvPicPr>
        <p:blipFill>
          <a:blip r:embed="rId1"/>
          <a:stretch/>
        </p:blipFill>
        <p:spPr>
          <a:xfrm>
            <a:off x="36360" y="1981080"/>
            <a:ext cx="4886640" cy="2895840"/>
          </a:xfrm>
          <a:prstGeom prst="rect">
            <a:avLst/>
          </a:prstGeom>
          <a:ln w="0">
            <a:noFill/>
          </a:ln>
        </p:spPr>
      </p:pic>
      <p:sp>
        <p:nvSpPr>
          <p:cNvPr id="166" name="文本框 4"/>
          <p:cNvSpPr/>
          <p:nvPr/>
        </p:nvSpPr>
        <p:spPr>
          <a:xfrm>
            <a:off x="5292720" y="1339920"/>
            <a:ext cx="32162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个人文件夹内放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电子照片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JPE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格式，尺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120*1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姓名和身份证号重命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某某同学参评国家励志奖学金的个人事迹材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某某同学国家励志奖学金申请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30592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班级电子版上交材料要求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pic>
        <p:nvPicPr>
          <p:cNvPr id="168" name="内容占位符 3" descr=""/>
          <p:cNvPicPr/>
          <p:nvPr/>
        </p:nvPicPr>
        <p:blipFill>
          <a:blip r:embed="rId1"/>
          <a:stretch/>
        </p:blipFill>
        <p:spPr>
          <a:xfrm>
            <a:off x="108000" y="2060640"/>
            <a:ext cx="4952880" cy="2760480"/>
          </a:xfrm>
          <a:prstGeom prst="rect">
            <a:avLst/>
          </a:prstGeom>
          <a:ln w="0">
            <a:noFill/>
          </a:ln>
        </p:spPr>
      </p:pic>
      <p:sp>
        <p:nvSpPr>
          <p:cNvPr id="169" name="文本框 2"/>
          <p:cNvSpPr/>
          <p:nvPr/>
        </p:nvSpPr>
        <p:spPr>
          <a:xfrm>
            <a:off x="5651640" y="2421000"/>
            <a:ext cx="31255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国家助学金文件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个人审批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附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4"/>
          <p:cNvSpPr/>
          <p:nvPr/>
        </p:nvSpPr>
        <p:spPr>
          <a:xfrm>
            <a:off x="108000" y="836640"/>
            <a:ext cx="49467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微软雅黑"/>
              </a:rPr>
              <a:t>国家助学金文件夹要求：</a:t>
            </a:r>
            <a:r>
              <a:rPr b="1" lang="zh-CN" sz="1400" spc="-1" strike="noStrike">
                <a:solidFill>
                  <a:srgbClr val="ff0000"/>
                </a:solidFill>
                <a:latin typeface="Calibri"/>
                <a:ea typeface="微软雅黑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6560" y="476280"/>
            <a:ext cx="830592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班级电子版上交材料要求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pic>
        <p:nvPicPr>
          <p:cNvPr id="172" name="内容占位符 3" descr=""/>
          <p:cNvPicPr/>
          <p:nvPr/>
        </p:nvPicPr>
        <p:blipFill>
          <a:blip r:embed="rId1"/>
          <a:stretch/>
        </p:blipFill>
        <p:spPr>
          <a:xfrm>
            <a:off x="38160" y="1913040"/>
            <a:ext cx="3949560" cy="2808360"/>
          </a:xfrm>
          <a:prstGeom prst="rect">
            <a:avLst/>
          </a:prstGeom>
          <a:ln w="0">
            <a:noFill/>
          </a:ln>
        </p:spPr>
      </p:pic>
      <p:sp>
        <p:nvSpPr>
          <p:cNvPr id="173" name="文本框 4"/>
          <p:cNvSpPr/>
          <p:nvPr/>
        </p:nvSpPr>
        <p:spPr>
          <a:xfrm>
            <a:off x="4788000" y="2205000"/>
            <a:ext cx="29080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个人审批表文件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一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二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三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0592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班级电子版上交材料要求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pic>
        <p:nvPicPr>
          <p:cNvPr id="175" name="内容占位符 3" descr=""/>
          <p:cNvPicPr/>
          <p:nvPr/>
        </p:nvPicPr>
        <p:blipFill>
          <a:blip r:embed="rId1"/>
          <a:stretch/>
        </p:blipFill>
        <p:spPr>
          <a:xfrm>
            <a:off x="38160" y="1798560"/>
            <a:ext cx="4135320" cy="3013200"/>
          </a:xfrm>
          <a:prstGeom prst="rect">
            <a:avLst/>
          </a:prstGeom>
          <a:ln w="0">
            <a:noFill/>
          </a:ln>
        </p:spPr>
      </p:pic>
      <p:sp>
        <p:nvSpPr>
          <p:cNvPr id="176" name="文本框 4"/>
          <p:cNvSpPr/>
          <p:nvPr/>
        </p:nvSpPr>
        <p:spPr>
          <a:xfrm>
            <a:off x="5148360" y="2349360"/>
            <a:ext cx="315108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各档次文件夹内放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XX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XX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国家助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金申请审批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8400" y="249120"/>
            <a:ext cx="830556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个人申请材料填写要求</a:t>
            </a: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28400" y="1120320"/>
            <a:ext cx="8305560" cy="51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10000"/>
              </a:lnSpc>
              <a:spcBef>
                <a:spcPts val="1012"/>
              </a:spcBef>
              <a:buClr>
                <a:srgbClr val="ac6c0d"/>
              </a:buClr>
              <a:buSzPct val="80000"/>
              <a:buFont typeface="Webdings" charset="2"/>
              <a:buChar char="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  <a:p>
            <a:pPr algn="ctr">
              <a:lnSpc>
                <a:spcPct val="110000"/>
              </a:lnSpc>
              <a:spcBef>
                <a:spcPts val="1012"/>
              </a:spcBef>
              <a:buClr>
                <a:srgbClr val="ac6c0d"/>
              </a:buClr>
              <a:buSzPct val="80000"/>
              <a:buFont typeface="Webdings" charset="2"/>
              <a:buChar char="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  <a:p>
            <a:pPr algn="ctr">
              <a:lnSpc>
                <a:spcPct val="110000"/>
              </a:lnSpc>
              <a:spcBef>
                <a:spcPts val="1012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微软雅黑"/>
              </a:rPr>
              <a:t>具体要求见各申请表附件批注及后页的填表要求，请严格按照要求填写！</a:t>
            </a:r>
            <a:endParaRPr b="0" lang="en-US" sz="5400" spc="-1" strike="noStrike">
              <a:solidFill>
                <a:srgbClr val="ac6c0d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400" y="249120"/>
            <a:ext cx="830556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目录</a:t>
            </a: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28400" y="1120320"/>
            <a:ext cx="8305560" cy="51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 algn="just">
              <a:lnSpc>
                <a:spcPct val="110000"/>
              </a:lnSpc>
              <a:spcBef>
                <a:spcPts val="1012"/>
              </a:spcBef>
              <a:buClr>
                <a:srgbClr val="ac6c0d"/>
              </a:buClr>
              <a:buSzPct val="80000"/>
              <a:buFont typeface="Webdings" charset="2"/>
              <a:buChar char="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  <a:p>
            <a:pPr marL="1440" indent="-1440" algn="just">
              <a:lnSpc>
                <a:spcPct val="110000"/>
              </a:lnSpc>
              <a:spcBef>
                <a:spcPts val="1012"/>
              </a:spcBef>
              <a:buClr>
                <a:srgbClr val="ac6c0d"/>
              </a:buClr>
              <a:buSzPct val="80000"/>
              <a:buFont typeface="Webdings" charset="2"/>
              <a:buChar char="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ac6c0d"/>
              </a:solidFill>
              <a:latin typeface="微软雅黑"/>
            </a:endParaRPr>
          </a:p>
          <a:p>
            <a:pPr marL="1440" indent="-1440" algn="just">
              <a:lnSpc>
                <a:spcPct val="110000"/>
              </a:lnSpc>
              <a:spcBef>
                <a:spcPts val="1012"/>
              </a:spcBef>
              <a:buClr>
                <a:srgbClr val="ac6c0d"/>
              </a:buClr>
              <a:buSzPct val="80000"/>
              <a:buFont typeface="Webdings" charset="2"/>
              <a:buChar char="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微软雅黑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微软雅黑"/>
              </a:rPr>
              <a:t>.</a:t>
            </a:r>
            <a:r>
              <a:rPr b="0" lang="zh-CN" sz="2800" spc="-1" strike="noStrike">
                <a:solidFill>
                  <a:srgbClr val="ff0000"/>
                </a:solidFill>
                <a:latin typeface="微软雅黑"/>
              </a:rPr>
              <a:t>班级电子版上交材料要求</a:t>
            </a:r>
            <a:endParaRPr b="0" lang="en-US" sz="2800" spc="-1" strike="noStrike">
              <a:solidFill>
                <a:srgbClr val="ac6c0d"/>
              </a:solidFill>
              <a:latin typeface="微软雅黑"/>
            </a:endParaRPr>
          </a:p>
          <a:p>
            <a:pPr marL="1440" indent="-1440" algn="just">
              <a:lnSpc>
                <a:spcPct val="110000"/>
              </a:lnSpc>
              <a:spcBef>
                <a:spcPts val="1012"/>
              </a:spcBef>
              <a:buClr>
                <a:srgbClr val="ac6c0d"/>
              </a:buClr>
              <a:buSzPct val="80000"/>
              <a:buFont typeface="Webdings" charset="2"/>
              <a:buChar char="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3600" spc="-1" strike="noStrike">
              <a:solidFill>
                <a:srgbClr val="ac6c0d"/>
              </a:solidFill>
              <a:latin typeface="微软雅黑"/>
            </a:endParaRPr>
          </a:p>
          <a:p>
            <a:pPr marL="1440" indent="-1440" algn="just">
              <a:lnSpc>
                <a:spcPct val="110000"/>
              </a:lnSpc>
              <a:spcBef>
                <a:spcPts val="1012"/>
              </a:spcBef>
              <a:buClr>
                <a:srgbClr val="ac6c0d"/>
              </a:buClr>
              <a:buSzPct val="80000"/>
              <a:buFont typeface="Webdings" charset="2"/>
              <a:buChar char="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微软雅黑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微软雅黑"/>
              </a:rPr>
              <a:t>.</a:t>
            </a:r>
            <a:r>
              <a:rPr b="0" lang="zh-CN" sz="2800" spc="-1" strike="noStrike">
                <a:solidFill>
                  <a:srgbClr val="ff0000"/>
                </a:solidFill>
                <a:latin typeface="微软雅黑"/>
              </a:rPr>
              <a:t>个人申请材料填写要求（见各申请表附件批注及后页的填表要求）</a:t>
            </a:r>
            <a:endParaRPr b="0" lang="en-US" sz="2800" spc="-1" strike="noStrike">
              <a:solidFill>
                <a:srgbClr val="ac6c0d"/>
              </a:solidFill>
              <a:latin typeface="微软雅黑"/>
            </a:endParaRPr>
          </a:p>
          <a:p>
            <a:pPr marL="1440" indent="-1440" algn="just">
              <a:lnSpc>
                <a:spcPct val="110000"/>
              </a:lnSpc>
              <a:spcBef>
                <a:spcPts val="1012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ac6c0d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30592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班级电子版上交材料要求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pic>
        <p:nvPicPr>
          <p:cNvPr id="136" name="内容占位符 5" descr=""/>
          <p:cNvPicPr/>
          <p:nvPr/>
        </p:nvPicPr>
        <p:blipFill>
          <a:blip r:embed="rId1"/>
          <a:stretch/>
        </p:blipFill>
        <p:spPr>
          <a:xfrm>
            <a:off x="250920" y="2492280"/>
            <a:ext cx="4130640" cy="2954520"/>
          </a:xfrm>
          <a:prstGeom prst="rect">
            <a:avLst/>
          </a:prstGeom>
          <a:ln w="0">
            <a:noFill/>
          </a:ln>
        </p:spPr>
      </p:pic>
      <p:sp>
        <p:nvSpPr>
          <p:cNvPr id="137" name="文本框 6"/>
          <p:cNvSpPr/>
          <p:nvPr/>
        </p:nvSpPr>
        <p:spPr>
          <a:xfrm>
            <a:off x="5425920" y="3139920"/>
            <a:ext cx="206712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文件名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X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班级省励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7"/>
          <p:cNvSpPr/>
          <p:nvPr/>
        </p:nvSpPr>
        <p:spPr>
          <a:xfrm>
            <a:off x="879480" y="1052640"/>
            <a:ext cx="36064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微软雅黑"/>
              </a:rPr>
              <a:t>）省政府励志奖学金总要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微软雅黑"/>
              </a:rPr>
              <a:t>       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微软雅黑"/>
              </a:rPr>
              <a:t>如图 以班级为单位建立总文件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30592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班级电子版上交材料要求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0" name="文本框 4"/>
          <p:cNvSpPr/>
          <p:nvPr/>
        </p:nvSpPr>
        <p:spPr>
          <a:xfrm>
            <a:off x="5508720" y="2349360"/>
            <a:ext cx="32842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XX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班级省励志文件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省励志奖学金文件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附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表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附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表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内容占位符 2" descr=""/>
          <p:cNvPicPr/>
          <p:nvPr/>
        </p:nvPicPr>
        <p:blipFill>
          <a:blip r:embed="rId1"/>
          <a:stretch/>
        </p:blipFill>
        <p:spPr>
          <a:xfrm>
            <a:off x="108000" y="1601640"/>
            <a:ext cx="5295960" cy="36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8400" y="249120"/>
            <a:ext cx="830556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班级电子版上交材料要求</a:t>
            </a: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3" name="标题 1"/>
          <p:cNvSpPr/>
          <p:nvPr/>
        </p:nvSpPr>
        <p:spPr>
          <a:xfrm>
            <a:off x="555480" y="376200"/>
            <a:ext cx="83059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3"/>
          <p:cNvSpPr/>
          <p:nvPr/>
        </p:nvSpPr>
        <p:spPr>
          <a:xfrm>
            <a:off x="5508720" y="2060640"/>
            <a:ext cx="31194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省励志奖学金：放入个人材料文件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命名方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XX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同学省励志奖学金材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5" descr=""/>
          <p:cNvPicPr/>
          <p:nvPr/>
        </p:nvPicPr>
        <p:blipFill>
          <a:blip r:embed="rId1"/>
          <a:stretch/>
        </p:blipFill>
        <p:spPr>
          <a:xfrm>
            <a:off x="181080" y="1557360"/>
            <a:ext cx="509580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30592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班级电子版上交材料要求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pic>
        <p:nvPicPr>
          <p:cNvPr id="147" name="内容占位符 3" descr=""/>
          <p:cNvPicPr/>
          <p:nvPr/>
        </p:nvPicPr>
        <p:blipFill>
          <a:blip r:embed="rId1"/>
          <a:stretch/>
        </p:blipFill>
        <p:spPr>
          <a:xfrm>
            <a:off x="108000" y="2060640"/>
            <a:ext cx="5124240" cy="2922480"/>
          </a:xfrm>
          <a:prstGeom prst="rect">
            <a:avLst/>
          </a:prstGeom>
          <a:ln w="0">
            <a:noFill/>
          </a:ln>
        </p:spPr>
      </p:pic>
      <p:sp>
        <p:nvSpPr>
          <p:cNvPr id="148" name="文本框 4"/>
          <p:cNvSpPr/>
          <p:nvPr/>
        </p:nvSpPr>
        <p:spPr>
          <a:xfrm>
            <a:off x="5508720" y="1268280"/>
            <a:ext cx="30686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个人文件夹内放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电子照片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JPE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格式，尺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120*1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姓名和身份证号重命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某某同学参评省励志奖学金的个人事迹材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某某同学省励志奖学金申请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0592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班级电子版上交材料要求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pic>
        <p:nvPicPr>
          <p:cNvPr id="150" name="内容占位符 3" descr=""/>
          <p:cNvPicPr/>
          <p:nvPr/>
        </p:nvPicPr>
        <p:blipFill>
          <a:blip r:embed="rId1"/>
          <a:stretch/>
        </p:blipFill>
        <p:spPr>
          <a:xfrm>
            <a:off x="468360" y="2241720"/>
            <a:ext cx="3906720" cy="2974680"/>
          </a:xfrm>
          <a:prstGeom prst="rect">
            <a:avLst/>
          </a:prstGeom>
          <a:ln w="0">
            <a:noFill/>
          </a:ln>
        </p:spPr>
      </p:pic>
      <p:sp>
        <p:nvSpPr>
          <p:cNvPr id="151" name="文本框 4"/>
          <p:cNvSpPr/>
          <p:nvPr/>
        </p:nvSpPr>
        <p:spPr>
          <a:xfrm>
            <a:off x="468360" y="907920"/>
            <a:ext cx="56102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微软雅黑"/>
              </a:rPr>
              <a:t>）国家励志奖学金、助学金总要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微软雅黑"/>
              </a:rPr>
              <a:t>       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微软雅黑"/>
              </a:rPr>
              <a:t>如图 以班级为单位建立总文件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5"/>
          <p:cNvSpPr/>
          <p:nvPr/>
        </p:nvSpPr>
        <p:spPr>
          <a:xfrm>
            <a:off x="5574240" y="3139920"/>
            <a:ext cx="18874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文件名为班级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30592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班级电子版上交材料要求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pic>
        <p:nvPicPr>
          <p:cNvPr id="154" name="内容占位符 3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4817880" cy="3506760"/>
          </a:xfrm>
          <a:prstGeom prst="rect">
            <a:avLst/>
          </a:prstGeom>
          <a:ln w="0">
            <a:noFill/>
          </a:ln>
        </p:spPr>
      </p:pic>
      <p:sp>
        <p:nvSpPr>
          <p:cNvPr id="155" name="文本框 4"/>
          <p:cNvSpPr/>
          <p:nvPr/>
        </p:nvSpPr>
        <p:spPr>
          <a:xfrm>
            <a:off x="6021720" y="2492280"/>
            <a:ext cx="178848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在上一个文件夹中新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国家励志奖学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国家助学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5"/>
          <p:cNvSpPr/>
          <p:nvPr/>
        </p:nvSpPr>
        <p:spPr>
          <a:xfrm>
            <a:off x="-324000" y="1123920"/>
            <a:ext cx="54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30592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班级电子版上交材料要求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pic>
        <p:nvPicPr>
          <p:cNvPr id="158" name="内容占位符 3" descr=""/>
          <p:cNvPicPr/>
          <p:nvPr/>
        </p:nvPicPr>
        <p:blipFill>
          <a:blip r:embed="rId1"/>
          <a:stretch/>
        </p:blipFill>
        <p:spPr>
          <a:xfrm>
            <a:off x="0" y="1906560"/>
            <a:ext cx="5191200" cy="3006720"/>
          </a:xfrm>
          <a:prstGeom prst="rect">
            <a:avLst/>
          </a:prstGeom>
          <a:ln w="0">
            <a:noFill/>
          </a:ln>
        </p:spPr>
      </p:pic>
      <p:sp>
        <p:nvSpPr>
          <p:cNvPr id="159" name="文本框 4"/>
          <p:cNvSpPr/>
          <p:nvPr/>
        </p:nvSpPr>
        <p:spPr>
          <a:xfrm>
            <a:off x="5796000" y="1989000"/>
            <a:ext cx="25398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国家励志奖学金文件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国家励志奖学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附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5"/>
          <p:cNvSpPr/>
          <p:nvPr/>
        </p:nvSpPr>
        <p:spPr>
          <a:xfrm>
            <a:off x="0" y="836640"/>
            <a:ext cx="62992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微软雅黑"/>
              </a:rPr>
              <a:t>国家励志奖学金文件夹要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8T13:29:37Z</dcterms:created>
  <dc:creator>Administrator</dc:creator>
  <dc:description/>
  <dc:language>en-US</dc:language>
  <cp:lastModifiedBy>Administrator</cp:lastModifiedBy>
  <dcterms:modified xsi:type="dcterms:W3CDTF">2015-10-20T11:10:49Z</dcterms:modified>
  <cp:revision>3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29</vt:lpwstr>
  </property>
</Properties>
</file>